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7FECD-E4E2-4D0C-8F22-793B99A8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168F-9586-431B-92E0-F2F7F4A6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4A01D-2FF5-49DF-89F9-ADD8A7B0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691B7-E76C-4946-9584-FEF3932B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AB5C-F0C8-4F44-BB11-02520593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96CF-8F35-4CF8-A194-D39B026B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517D-2478-4CCD-9E25-2FA5261F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5F24-550C-4994-8C55-134D2334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FE3B-4B35-4826-B768-F335A329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49DA-5F98-455D-8E22-63F11193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1A60-B264-4290-88FC-11DF403B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3F63D-F68D-407F-8F4D-DB32A1B1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0EDF-5B15-4B6F-9159-79714569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80CD-53C9-453E-A126-D594100A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02C3-278C-4FB7-9A1B-448B8C52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CFBA-CE10-4FA6-8790-7B531B01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8621-C857-44A6-B1F1-E41FF90B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8D97C-88A5-4D39-A7A3-9180045F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CF363-2598-4881-8781-B7D972D3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86294-578F-42C3-8F8E-7C7207D2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C6E99-FE9A-442F-90CE-72954162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1B702-F25D-401F-AC8E-02798A21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1FCCC-2548-425A-979F-7341A4FB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84750-8A51-4C6F-AF36-217A9024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414A4-D119-4492-ABD2-CDBAD39D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9A427-7E6F-48F7-B7B4-61E6A23E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184D1-3C32-4F40-AB2A-5F51DB88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FE74F-8C3A-45F7-AC66-8CF85991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CC6C0-F62C-4FAF-918F-3E561143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00BFE-2C47-4BA5-83DF-D20D638F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E0B6E-C12B-4E27-8616-071E9342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78C39-FAA7-465F-9AF8-693268B1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BBDE0-717D-4C78-BDAB-002A04CC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76D5A-71F6-47BC-B58A-AEA4CAEB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9C268-7DC3-440E-8A24-74A996B2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C37FC-7759-4473-9E18-6F7EFB00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23FC-BB1C-4996-8D27-51FE1EB5BC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">
            <a:hlinkClick r:id="" action="ppaction://hlinkshowjump?jump=last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6986" y="10800"/>
                </a:moveTo>
                <a:lnTo>
                  <a:pt x="6481" y="17806"/>
                </a:lnTo>
                <a:lnTo>
                  <a:pt x="6481" y="3794"/>
                </a:lnTo>
                <a:close/>
              </a:path>
              <a:path fill="darken" w="26975" h="21600">
                <a:moveTo>
                  <a:pt x="18831" y="3794"/>
                </a:moveTo>
                <a:lnTo>
                  <a:pt x="18831" y="17806"/>
                </a:lnTo>
                <a:lnTo>
                  <a:pt x="20494" y="17806"/>
                </a:lnTo>
                <a:lnTo>
                  <a:pt x="20494" y="3794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">
            <a:hlinkClick r:id="" action="ppaction://hlinkshowjump?jump=nextslide"/>
          </p:cNvPr>
          <p:cNvSpPr/>
          <p:nvPr/>
        </p:nvSpPr>
        <p:spPr>
          <a:xfrm>
            <a:off x="83818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FDE0-4655-44DA-AFE8-A8C426F5FAE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3473-2410-4757-B150-901D34993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last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6986" y="10800"/>
                </a:moveTo>
                <a:lnTo>
                  <a:pt x="6481" y="17806"/>
                </a:lnTo>
                <a:lnTo>
                  <a:pt x="6481" y="3794"/>
                </a:lnTo>
                <a:close/>
              </a:path>
              <a:path fill="darken" w="26975" h="21600">
                <a:moveTo>
                  <a:pt x="18831" y="3794"/>
                </a:moveTo>
                <a:lnTo>
                  <a:pt x="18831" y="17806"/>
                </a:lnTo>
                <a:lnTo>
                  <a:pt x="20494" y="17806"/>
                </a:lnTo>
                <a:lnTo>
                  <a:pt x="20494" y="3794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3818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ome Sail Away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ader’s Theatre Adven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772400" y="64008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0187600">
            <a:off x="5943600" y="563868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avigate Here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Macintosh HD:Users:sherry:Music:iTunes:iTunes Music:Styx:Greatest Hits:09 Come Sail Away.mp3" descr=""/>
          <p:cNvPicPr/>
          <p:nvPr/>
        </p:nvPicPr>
        <p:blipFill>
          <a:blip r:embed="rId1"/>
          <a:stretch/>
        </p:blipFill>
        <p:spPr>
          <a:xfrm>
            <a:off x="0" y="6858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Adventure Continues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 rot="20571600">
            <a:off x="1344240" y="2819520"/>
            <a:ext cx="36691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Tahoma"/>
              </a:rPr>
              <a:t>Teach it!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257800" y="2514600"/>
            <a:ext cx="3398760" cy="34196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0773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las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rs. Rot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enari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rs. Roth teaches 7-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rade Intensive Reading. She wishes to add reader’s theatre to her class. For the first attempt, the students will only perform for each 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careful research, she chose: The Giant’s Wife as her first scrip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0773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las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ript Instruction Steps…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asic overview of fluenc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lnSpc>
                <a:spcPct val="90000"/>
              </a:lnSpc>
              <a:spcBef>
                <a:spcPts val="3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each the students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luency is the correct words read per minut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409760" indent="-4953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der’s Theatre fluency is not only correct words read per minute, but correct words read following script cues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784520" indent="-412920">
              <a:lnSpc>
                <a:spcPct val="9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or example - emotions - anger, fear, sadness, happiness - let it show in your voice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784520" indent="-412920">
              <a:lnSpc>
                <a:spcPct val="9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or example - tone - loud, soft, whisper, etc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784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9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asic overview of script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lnSpc>
                <a:spcPct val="9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ach the abstract to the stude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lnSpc>
                <a:spcPct val="9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 background knowledge of setting if possi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lnSpc>
                <a:spcPct val="9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iscuss characters and their feelings at selected points in the 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60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9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and out the scripts to the student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9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rect instruction of any teacher located difficult words 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lnSpc>
                <a:spcPct val="9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sk students to review script looking for words they do not know. Have students write unknown words on a sticky note and put on the board for discussio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60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77440" y="637704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iant’s Wife Power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1067400"/>
            <a:ext cx="807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rs. Roth created a short PowerPoint to illustrate The Giant’s Wif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t’s look at the PowerPoint and her rationale for each sli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04920" y="2109960"/>
            <a:ext cx="6324480" cy="4748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629400" y="2755440"/>
            <a:ext cx="2513160" cy="1647720"/>
          </a:xfrm>
          <a:prstGeom prst="wedgeEllipseCallout">
            <a:avLst>
              <a:gd name="adj1" fmla="val -68819"/>
              <a:gd name="adj2" fmla="val 4128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he starts with a picture of an Irish mountain like the one our giant lives nea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66720" y="-360"/>
            <a:ext cx="4876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Stone Sans ITC TT-Bold"/>
              </a:rPr>
              <a:t>Giant’s Cause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1219320"/>
            <a:ext cx="457200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tone Sans ITC TT-Semi"/>
              </a:rPr>
              <a:t>40,000 interlocking basalt columns resulting from a volcanic erup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tone Sans ITC TT-Semi"/>
              </a:rPr>
              <a:t>The tops of the columns form stepping stones that lead from the cliff foot and disappear under the sea.</a:t>
            </a:r>
            <a:r>
              <a:rPr b="0" lang="en-US" sz="2800" spc="-1" strike="noStrike">
                <a:solidFill>
                  <a:srgbClr val="333333"/>
                </a:solidFill>
                <a:latin typeface="Trebuchet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8880" cy="4572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80880" y="48006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tone Sans ITC TT-Semi"/>
              </a:rPr>
              <a:t>Most of the columns are hexagonal, however there are some with four, five, seven and eight sides. The tallest are about 36 ft hi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180720"/>
            <a:ext cx="1676520" cy="1950120"/>
          </a:xfrm>
          <a:prstGeom prst="wedgeEllipseCallout">
            <a:avLst>
              <a:gd name="adj1" fmla="val 90703"/>
              <a:gd name="adj2" fmla="val -284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ur giant is building this causeway. Awesome - huh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62120" y="1823760"/>
            <a:ext cx="75438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is script is fairly simple other than names. Mrs. Roth direct teaches the names to the students with multiple reminder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Cuhullin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is pronounced “koo-HULL-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ona is pronounce as it is spell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ther key word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ch! - Exclamation! Surprise!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Pronunciation: it  rhymes with the Scottish loc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riddle -  iron pancake p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rieve - sadd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ocabular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268880" cy="4572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419720" y="838080"/>
            <a:ext cx="449568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teaching the setting, Mrs. Roth assigns teams of two or three students to read the script aloud disregarding character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le the students read, Mrs. Roth, roams around the room listening for mispronounced words and determines her ca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is ends this les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ext step… practice  the scrip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endshow"/>
          </p:cNvPr>
          <p:cNvSpPr/>
          <p:nvPr/>
        </p:nvSpPr>
        <p:spPr>
          <a:xfrm>
            <a:off x="7086600" y="6095880"/>
            <a:ext cx="2057400" cy="762120"/>
          </a:xfrm>
          <a:custGeom>
            <a:avLst/>
            <a:gdLst>
              <a:gd name="textAreaLeft" fmla="*/ 49320 w 2057400"/>
              <a:gd name="textAreaRight" fmla="*/ 2008080 w 2057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8293" h="21600">
                <a:moveTo>
                  <a:pt x="0" y="0"/>
                </a:moveTo>
                <a:lnTo>
                  <a:pt x="58293" y="0"/>
                </a:lnTo>
                <a:lnTo>
                  <a:pt x="58293" y="21600"/>
                </a:lnTo>
                <a:lnTo>
                  <a:pt x="0" y="21600"/>
                </a:lnTo>
                <a:close/>
              </a:path>
              <a:path fill="lightenLess" w="58293" h="21600">
                <a:moveTo>
                  <a:pt x="0" y="0"/>
                </a:moveTo>
                <a:lnTo>
                  <a:pt x="58293" y="0"/>
                </a:lnTo>
                <a:lnTo>
                  <a:pt x="56894" y="1400"/>
                </a:lnTo>
                <a:lnTo>
                  <a:pt x="1400" y="1400"/>
                </a:lnTo>
                <a:close/>
              </a:path>
              <a:path fill="darken" w="58293" h="21600">
                <a:moveTo>
                  <a:pt x="58293" y="0"/>
                </a:moveTo>
                <a:lnTo>
                  <a:pt x="58293" y="21600"/>
                </a:lnTo>
                <a:lnTo>
                  <a:pt x="56894" y="20200"/>
                </a:lnTo>
                <a:lnTo>
                  <a:pt x="56894" y="1400"/>
                </a:lnTo>
                <a:close/>
              </a:path>
              <a:path fill="darkenLess" w="58293" h="21600">
                <a:moveTo>
                  <a:pt x="58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94" y="20200"/>
                </a:lnTo>
                <a:close/>
              </a:path>
              <a:path fill="lighten" w="58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d S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1:34:43Z</dcterms:created>
  <dc:creator>Greg Walsh</dc:creator>
  <dc:description/>
  <dc:language>en-US</dc:language>
  <cp:lastModifiedBy>Greg Walsh</cp:lastModifiedBy>
  <dcterms:modified xsi:type="dcterms:W3CDTF">2009-04-19T17:35:33Z</dcterms:modified>
  <cp:revision>10</cp:revision>
  <dc:subject/>
  <dc:title>Come Sail Away </dc:title>
</cp:coreProperties>
</file>